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0938-8F5D-4E26-9481-E102D890B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641F-8ECE-4F07-8041-69004F9D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12C5-88A1-4139-958E-F2CA673B3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114C-5109-40A8-8AF4-45348516B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9B29-A7AA-434C-970F-0BB26E72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0746-6947-4E42-808D-B6452F22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4447-99F3-49F4-97D2-D6F9C341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4BF5-C167-42FE-9E0A-FACA934B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6153-3CB4-4A84-AB2A-2320D84E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CBF0-B349-4FC0-8326-8EB8DBD9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FFFB-9194-4A79-B467-25B6E2C9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DAB1-8F42-41BB-85E2-51BD71FE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6463-BCAF-4C6C-8F9B-947101EF73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acob Wink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eek city-st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http://farm4.static.flickr.com/3500/3234068659_b21cbe0dd4.jpg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tudy of wisdom and the right way to li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"/>
          <p:cNvSpPr/>
          <p:nvPr/>
        </p:nvSpPr>
        <p:spPr>
          <a:xfrm>
            <a:off x="155520" y="-1508040"/>
            <a:ext cx="495288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155520" y="-1508040"/>
            <a:ext cx="495288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6"/>
          <p:cNvSpPr/>
          <p:nvPr/>
        </p:nvSpPr>
        <p:spPr>
          <a:xfrm>
            <a:off x="155520" y="-1508040"/>
            <a:ext cx="495288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http://www.frontdoor.biz/theolsons/Jack/JaxFaith/Heraclitus/philo.gif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rea of land nearly surrounded by wa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http://www.mlahanas.de/Greece/Regions/images/ChalcidiceM.gif"/>
          <p:cNvPicPr/>
          <p:nvPr/>
        </p:nvPicPr>
        <p:blipFill>
          <a:blip r:embed="rId1"/>
          <a:stretch/>
        </p:blipFill>
        <p:spPr>
          <a:xfrm>
            <a:off x="0" y="1752480"/>
            <a:ext cx="8839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itle 1"/>
          <p:cNvSpPr/>
          <p:nvPr/>
        </p:nvSpPr>
        <p:spPr>
          <a:xfrm>
            <a:off x="457200" y="68580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war between Athens and Spa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http://www.historyforkids.org/learn/greeks/history/pictures/alexmosaic.jpg"/>
          <p:cNvPicPr/>
          <p:nvPr/>
        </p:nvPicPr>
        <p:blipFill>
          <a:blip r:embed="rId1"/>
          <a:stretch/>
        </p:blipFill>
        <p:spPr>
          <a:xfrm>
            <a:off x="0" y="2971800"/>
            <a:ext cx="9144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kind of government that is run by a small group of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http://www.historyforkids.org/learn/china/history/pictures/lixian771.jpg"/>
          <p:cNvPicPr/>
          <p:nvPr/>
        </p:nvPicPr>
        <p:blipFill>
          <a:blip r:embed="rId1"/>
          <a:stretch/>
        </p:blipFill>
        <p:spPr>
          <a:xfrm>
            <a:off x="0" y="3124080"/>
            <a:ext cx="9144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heltered place along the coas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http://www.theodora.com/wfb/photos/greece/harbor_mykonos_greece_photo_gnto.jpg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http://www.wallpaperlounge.eu/data/media/920/The_Parthenon_Acropolis_Athens_Greece.jpg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http://www.traveljournals.net/pictures/l/13/138064-agora-at-sunset-athens-greece.jpg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w making place where people voted on issues that helped their c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farm4.static.flickr.com/3164/5780897409_b8ca992b70.jpg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erson who has certain rights and responsibilities to his or her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www.crethiplethi.com/wp-content/uploads/chryssss_9072152.jpg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oup of people who lived apart from Greece but kept economic ties with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farm1.staticflickr.com/167/399822343_f27e6c72d2_z.jpg?zz=1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greece.mrdonn.org/athens1.gif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hear evidence and make decision in a court of la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http://www.euromediaawards.eu/wp-content/uploads/2011/09/Jury_alle1.jpg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 headed by one rul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http://westerlund10.wikis.birmingham.k12.mi.us/file/view/monarchy.gif/210820518/monarchy.gif"/>
          <p:cNvPicPr/>
          <p:nvPr/>
        </p:nvPicPr>
        <p:blipFill>
          <a:blip r:embed="rId1"/>
          <a:stretch/>
        </p:blipFill>
        <p:spPr>
          <a:xfrm>
            <a:off x="0" y="2496960"/>
            <a:ext cx="9144000" cy="43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poweruser</cp:lastModifiedBy>
  <dcterms:modified xsi:type="dcterms:W3CDTF">2012-03-02T17:18:47Z</dcterms:modified>
  <cp:revision>102</cp:revision>
  <dc:subject/>
  <dc:title>Ancient Greece</dc:title>
</cp:coreProperties>
</file>